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C3E-3C4A-4A8F-B995-95B921C9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488-358D-4354-BB79-768E2C01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5AE-6D32-4DE4-B218-95E55C8A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7BF-71F7-47C1-ADEE-7882BD14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DBF-6197-4D12-8A8E-D5FEE222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F94-149D-45F7-A46F-E523DDE1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03E-57D7-4051-A9A6-CE3CD685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335-7069-42C7-8418-75004C49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46B-57DF-4688-944B-922379A7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651-7B6C-48CE-9E14-98C641A5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163-B5C5-4CF3-AC5D-8C3C0AB3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5CA-E940-46FA-8BB7-40F02AF3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D3C5C-1DCD-48C6-A8C0-1E2B6BA797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ROSA E O BEIJA-F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1260360"/>
            <a:ext cx="5040360" cy="501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agartinha Tixa corria de um lado para outro, nervosa, suada e assus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viu Clarinha no jardim gri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Claaaaaaaaaaaaaaaaaa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foi Tixa- Perguntou Clar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osa esta morrendo de tristeza, então vamos ver o que esta acontecendo com ela disse Clar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heni_vers-12" descr=""/>
          <p:cNvPicPr/>
          <p:nvPr/>
        </p:nvPicPr>
        <p:blipFill>
          <a:blip r:embed=""/>
          <a:stretch/>
        </p:blipFill>
        <p:spPr>
          <a:xfrm>
            <a:off x="7559640" y="5400720"/>
            <a:ext cx="180036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11960" y="2700360"/>
            <a:ext cx="20476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328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a Rosa viu as duas foi logo dize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rinha por que ninguém liga pra m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lefante Trombão é um desajeitadão, só com um pisão me deixa toda amassada no ch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lefa05" descr=""/>
          <p:cNvPicPr/>
          <p:nvPr/>
        </p:nvPicPr>
        <p:blipFill>
          <a:blip r:embed=""/>
          <a:stretch/>
        </p:blipFill>
        <p:spPr>
          <a:xfrm>
            <a:off x="2716200" y="4056120"/>
            <a:ext cx="3629160" cy="2765520"/>
          </a:xfrm>
          <a:prstGeom prst="rect">
            <a:avLst/>
          </a:prstGeom>
          <a:ln w="0">
            <a:noFill/>
          </a:ln>
        </p:spPr>
      </p:pic>
      <p:pic>
        <p:nvPicPr>
          <p:cNvPr id="48" name="flor020" descr=""/>
          <p:cNvPicPr/>
          <p:nvPr/>
        </p:nvPicPr>
        <p:blipFill>
          <a:blip r:embed=""/>
          <a:stretch/>
        </p:blipFill>
        <p:spPr>
          <a:xfrm>
            <a:off x="6840360" y="4795920"/>
            <a:ext cx="252900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zebra08" descr=""/>
          <p:cNvPicPr/>
          <p:nvPr/>
        </p:nvPicPr>
        <p:blipFill>
          <a:blip r:embed=""/>
          <a:stretch/>
        </p:blipFill>
        <p:spPr>
          <a:xfrm>
            <a:off x="5580000" y="2100240"/>
            <a:ext cx="3600360" cy="437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0480" y="1382760"/>
            <a:ext cx="907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zebra Listrinha quer se enfeitar me colocando na sua gra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us espinhos são tantos, mas tantos que as crianças não gostam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e  a pena viver ass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flor085" descr=""/>
          <p:cNvPicPr/>
          <p:nvPr/>
        </p:nvPicPr>
        <p:blipFill>
          <a:blip r:embed=""/>
          <a:stretch/>
        </p:blipFill>
        <p:spPr>
          <a:xfrm>
            <a:off x="539640" y="5400720"/>
            <a:ext cx="270036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Clarinha ia responder, chegou um Beija- Flor muito elegante bem diferente do elefante, usava camisa de listrinha mas não era zebr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deou todas as flores de todas as cores, e pousou sobre a Rosa que era a mais linda de todas naquele jard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Beija-Flor  beijou a Rosa, que por ele ficou toda dengosa, morrendo de am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flor017" descr=""/>
          <p:cNvPicPr/>
          <p:nvPr/>
        </p:nvPicPr>
        <p:blipFill>
          <a:blip r:embed=""/>
          <a:stretch/>
        </p:blipFill>
        <p:spPr>
          <a:xfrm>
            <a:off x="3754440" y="5040360"/>
            <a:ext cx="2185920" cy="1979640"/>
          </a:xfrm>
          <a:prstGeom prst="rect">
            <a:avLst/>
          </a:prstGeom>
          <a:ln w="0">
            <a:noFill/>
          </a:ln>
        </p:spPr>
      </p:pic>
      <p:pic>
        <p:nvPicPr>
          <p:cNvPr id="56" name="beija03" descr=""/>
          <p:cNvPicPr/>
          <p:nvPr/>
        </p:nvPicPr>
        <p:blipFill>
          <a:blip r:embed=""/>
          <a:stretch/>
        </p:blipFill>
        <p:spPr>
          <a:xfrm>
            <a:off x="5219640" y="4680000"/>
            <a:ext cx="197964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47:56Z</dcterms:created>
  <dc:creator/>
  <dc:description/>
  <dc:language>en-US</dc:language>
  <cp:lastModifiedBy/>
  <cp:revision>1</cp:revision>
  <dc:subject/>
  <dc:title/>
</cp:coreProperties>
</file>